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0E8D-495A-441D-A105-ECB5685A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47F5-5486-4D21-A307-D3E5A802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A9FE-3853-4569-ABEF-F07A0791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8137-4F7B-40F4-99C6-57323D73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74F3-4A2E-4C9B-AA0D-ABC2CD21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EDED-DC5B-4358-B10A-4E788C74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86D6-2640-4A13-8F00-7FAFA9DA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7731-E87E-44B8-B5A5-E0397EB8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06CF-5E82-4B0C-ADC6-888B0821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4621-7D6D-4E49-8B60-1FF63C1E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BE59-F9FD-49D7-B075-66758BF1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2043-8D67-4A3C-97FA-2BB749E5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C851-E0C2-4C8B-915C-DA14447E6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nfängerunterricht Chemie in Klasse 8 statt in Klasse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2716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 müssen, können, sollten wir anders und/oder  besser mac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il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85228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e klein sind kleine Teilchen</a:t>
            </a:r>
            <a:br>
              <a:rPr sz="4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r Ölfleckversuch ohne Kreiszah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klein sind kleine Teilc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11280" y="1427040"/>
            <a:ext cx="4300560" cy="3225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79280" y="5081760"/>
                <a:ext cx="609624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4 Tropfen ergaben 1 Millilite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Öl aus 1 Tropfe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80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klein sind kleine Teilc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03280" y="180504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3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klein sind kleine Teilc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64360" y="494172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 = 6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klein sind kleine Teilc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774880" y="2646360"/>
            <a:ext cx="3594240" cy="2870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4000" y="1268280"/>
            <a:ext cx="835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chsel zur Modelleb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ugelteilchenmodell: Modell für die Teilchen in einem Öltrop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5877000"/>
            <a:ext cx="621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nd der Petrischale   -     Kohäsionskräf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klein sind kleine Teilc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1268280"/>
            <a:ext cx="640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chsel zur Modelleb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ugelteilchenmod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57280" y="5877000"/>
            <a:ext cx="621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nd der Petrischale   -     Kohäsionskräf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00480" y="2286000"/>
            <a:ext cx="4300200" cy="3225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093080" y="2492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 = 4,5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klein sind kleine Teilc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268280"/>
            <a:ext cx="4103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olumenbestimm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sszylinder     -      Bür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28800" y="23385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4666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0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klein sind kleine Teilc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1268280"/>
            <a:ext cx="4103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olumenbestimm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sszylinder     -      Bür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9640" y="2300400"/>
            <a:ext cx="3222720" cy="4297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572000" y="249228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(Modellöltropfen) = 34 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klein sind kleine Teilc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268280"/>
            <a:ext cx="5183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ächenbestimm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üssigkeiten passen sich der Form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4000" y="25542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klein sind kleine Teilc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268280"/>
            <a:ext cx="5183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ächenbestimm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üssigkeiten passen sich der Form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227640" y="2060640"/>
            <a:ext cx="266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löltropf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ällt aufs Wass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85228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nsive und intensive Eigenschaften</a:t>
            </a:r>
            <a:br>
              <a:rPr sz="4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. B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ffmenge – molare Mas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klein sind kleine Teilc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268280"/>
            <a:ext cx="5183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ächenbestimm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üssigkeiten passen sich der Form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59680" y="5095800"/>
            <a:ext cx="233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= 8 cm x 8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= 64 cm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29440" y="2924280"/>
            <a:ext cx="266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ldung der monomolekularen Schic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27640" y="4095720"/>
            <a:ext cx="23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Quadratur des Kre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27640" y="2060640"/>
            <a:ext cx="266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löltropf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ällt aufs Wass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klein sind kleine Teilc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11280" y="1773360"/>
                <a:ext cx="312732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m³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m²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716360" y="1773360"/>
                <a:ext cx="406728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cm,     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,5 cm</m:t>
                        </m:r>
                      </m:e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num>
                          <m:den>
                            <m:r>
                              <m:t xml:space="preserve">4,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39640" y="126828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lrechn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367992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versu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11280" y="4254480"/>
                <a:ext cx="7208640" cy="16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 c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,62 cm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3 cm²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m³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8000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m²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4572000" y="2276640"/>
            <a:ext cx="4321080" cy="936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660920"/>
            <a:ext cx="7561080" cy="1512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8000" y="2276640"/>
            <a:ext cx="4321080" cy="1152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5229360"/>
            <a:ext cx="7561080" cy="1079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5187960"/>
            <a:ext cx="6193080" cy="93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87640" y="5156280"/>
            <a:ext cx="5113440" cy="100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95640" y="5229360"/>
            <a:ext cx="4392720" cy="93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24360" y="5229360"/>
            <a:ext cx="2951280" cy="93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3440" y="1268280"/>
            <a:ext cx="31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dra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r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6345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ilchendurchmesser etwa: der milliardste Teil eines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2920" y="314172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ts gültiger Umrechnungsfaktor zwischen Kreis und Quadrat: a/r=1,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offmenge, molare Masse, extensive und intensive Eigenscha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7080" y="1787400"/>
            <a:ext cx="4300560" cy="3225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5229360"/>
            <a:ext cx="4572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as ist meh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sse bestimm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olumen bestimm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2205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Schwef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66920" y="2205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Ei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00520" y="1805040"/>
            <a:ext cx="4300560" cy="3225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020000" y="2205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Ei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5280" y="2205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M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5229360"/>
            <a:ext cx="38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as ist meh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nzahl bestimm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offmenge, molare Masse, extensive und intensive Eigenscha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1413000"/>
            <a:ext cx="6912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Dutzend = 12 Stü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Schock =   5 Dutzend =   60 Stü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Gros     = 12 Dutzend = 144 Stü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Mol       =   6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0²³ Stü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3798720"/>
            <a:ext cx="287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1 dz   = 12 st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1 mol =   6</a:t>
            </a:r>
            <a:r>
              <a:rPr b="0" lang="de-DE" sz="2000" spc="-1" strike="noStrike" baseline="30000">
                <a:solidFill>
                  <a:srgbClr val="000000"/>
                </a:solidFill>
                <a:latin typeface="Verdana"/>
              </a:rPr>
              <a:t>.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10²³ st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519264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ät: Abzählbarkeit, nicht nur bei Stoffme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444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offmenge, molare Masse, extensive und intensive Eigenscha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413000"/>
            <a:ext cx="748800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asse, Volumen, Stoffmenge: extensive Eigenscha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tensive Eigenschaft oder Intensitä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chte, molare Masse: Quotie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tensitätsphänomene haben zwei Charakteris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Teilungseigenschaft, Trägheitseigensch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eilungseigenschaft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im Teilen des Objekts bleibt die Intensität er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eilungseigenschaft: Grundlage des Wiedererkennens von Stoffen unabhängig von der Portionsgröß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Trägheitseigenschaft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Objekte mit großer Extension ändern ihre Intensität nur sehr trä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684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offmenge, molare Masse, extensive und intensive Eigenscha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87280" y="4076640"/>
                <a:ext cx="32292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nsitä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Genitivgröß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tensio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179280" y="5070600"/>
            <a:ext cx="8713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isp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Dichte: Intensität einer Masse, Massenintensitä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intensiv ist ein bestimmter Raum mit Masse angefü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7080" y="1197000"/>
            <a:ext cx="8893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iele Phänomene kann man extensiv und intensiv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ispiele: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asse (extensiv)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chte (intensi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Wander)Strecke (extensiv)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Geschwindigkeit (intensi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i der Dichte: 2 Qualitäten gleichzeitig im B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Größe, deren Intensität man angeben will (Genitivgröß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Größe, die die Ausdehnung beschreibt.      (Exten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651640" y="4008600"/>
                <a:ext cx="234000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cht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s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1944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offmenge, molare Masse, extensive und intensive Eigenscha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2680" y="1490760"/>
            <a:ext cx="896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lare Masse – ebenfalls eine Massenintensitä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e intensiv ist eine Teilchensorte mit Masse verse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terschiedliche Extension: Volumen, Teilchenanzah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chte – druckabhängig, temperaturabhängig wegen Volu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484360" y="3860640"/>
                <a:ext cx="32320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lare</m:t>
                    </m:r>
                    <m:r>
                      <m:rPr>
                        <m:lit/>
                        <m:nor/>
                      </m:rPr>
                      <m:t xml:space="preserve">Mass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s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toffmeng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250920" y="5157720"/>
            <a:ext cx="8424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lare Masse – Durchschnittsma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il die andere Extension (Stoffmenge) weder vom Druck noch von der Temperatur abhängt, wird auch diese andere Massenintensität unabhängig von diesen Paramet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944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offmenge, molare Masse, extensive und intensive Eigenscha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240" y="1628640"/>
            <a:ext cx="903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lare Masse –Schülerübungen mit Schrauben und Mu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: Anzahl mit der Waage bestim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rtionsgröße eines Reinstoffs (Stoffme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44600" y="3357720"/>
                <a:ext cx="5422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auflösen nach </m:t>
                    </m:r>
                    <m:r>
                      <m:t xml:space="preserve">n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250920" y="4591080"/>
            <a:ext cx="7993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(Mutter)= 2,19 g/stk 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1/M(Mutter)= 0,457 stk/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(NaCl)= (23 + 35,5)g/mol  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 1/M(NaCl) = 0,0171 mol/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fängerunterricht Chemie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offmenge, molare Masse, extensive und intensive Eigenscha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26828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ennung eines Modellgemis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828800" y="180504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29134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0:15:30Z</dcterms:created>
  <dc:creator>jungermann</dc:creator>
  <dc:description/>
  <dc:language>en-US</dc:language>
  <cp:lastModifiedBy>jungermann</cp:lastModifiedBy>
  <dcterms:modified xsi:type="dcterms:W3CDTF">2009-02-20T11:29:41Z</dcterms:modified>
  <cp:revision>70</cp:revision>
  <dc:subject/>
  <dc:title>Anfängerunterricht Chemie in Klasse 8 statt in Klasse 9</dc:title>
</cp:coreProperties>
</file>